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8129588" cy="6116638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440" y="-5040"/>
            <a:ext cx="303192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960360" y="-5040"/>
            <a:ext cx="3032280" cy="468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2"/>
          </p:nvPr>
        </p:nvSpPr>
        <p:spPr>
          <a:xfrm>
            <a:off x="-1440" y="8817120"/>
            <a:ext cx="3031920" cy="468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3"/>
          </p:nvPr>
        </p:nvSpPr>
        <p:spPr>
          <a:xfrm>
            <a:off x="396036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41909C88-B246-408B-A3A4-82ADA6D30DE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858760" y="8839080"/>
            <a:ext cx="12740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FCD387C4-2D9A-4F3A-AF3B-5E74C381AF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Img"/>
          </p:nvPr>
        </p:nvSpPr>
        <p:spPr>
          <a:xfrm>
            <a:off x="1190520" y="704880"/>
            <a:ext cx="4610160" cy="3465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D9C9B82-872D-4B6A-A7C0-E8C351027A08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7D9C9F7-9233-4F40-BEC7-C0A6761312B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st the team’s go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0D2D513-2265-48F5-96DC-A75D6662471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st key project milestones such as the dates and content of releases or the dates for completing key phases or gates. Compare these to management’s schedule goal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70EE245-2988-4413-9946-74639C515E36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st the key aspects of any alternate plan such as changes in scope, features, or resourc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3FED5D60-D669-41D9-9710-7CAEEA2D5919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8BE2069B-9E48-4444-9AAA-EA7FF9906B20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3F03043-7AFB-4B11-B051-9D394ACEBA8A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9E46CF9-66D7-43C1-A4A0-BED4727FE492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C14B6E1-AB77-4D8A-A70A-4A815F06A4C4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iefly review the structure of the launch worksho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B0415A6-5F47-4CF5-A462-0C6E2B1BF2F7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scribe the key activities of the first seven launch meetings, and how these steps work together to build a detailed plan for the work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mphasize how the planning steps work together to produce a plan that the team has confidence in and is committed t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09520"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68F09C1-D1BD-49CF-8091-4F6D8E7A321B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978200" y="606600"/>
            <a:ext cx="2817720" cy="2120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B3185C1-911E-4771-A6CA-A47CC26C69D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5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EF72AF5-8855-4E51-B536-5876E583C5B1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st management’s stated and implied goa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92320" y="704880"/>
            <a:ext cx="4606920" cy="34653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31680" y="440676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spcBef>
                <a:spcPts val="550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60720" y="8817120"/>
            <a:ext cx="3032280" cy="4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EFD2E4E-A327-4D7A-A223-631E4EA55D3E}" type="slidenum"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0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37920" y="355068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15044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95596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364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3792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95596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27364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200" y="419040"/>
            <a:ext cx="685188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5044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37920" y="355068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15044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5596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273640" y="129492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3792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5596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273640" y="3550680"/>
            <a:ext cx="22071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28200" y="419040"/>
            <a:ext cx="6851880" cy="26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50440" y="355068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50440" y="1294920"/>
            <a:ext cx="334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37920" y="3550680"/>
            <a:ext cx="6854760" cy="20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buClr>
                <a:srgbClr val="ffffff"/>
              </a:buClr>
              <a:buFont typeface="Arial"/>
              <a:buChar char="-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71320" y="5869080"/>
            <a:ext cx="393588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Copyright 2013 by Carnegie Mellon University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September 2013</a:t>
            </a:r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4800600" y="5854680"/>
            <a:ext cx="2806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Launch Workshop Meeting 9 Presentation - </a:t>
            </a:r>
            <a:fld id="{7EB89FDC-1653-49DF-AFB6-C317E3461947}" type="slidenum">
              <a:rPr b="1" lang="en-US" sz="9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4680" y="4680"/>
            <a:ext cx="8116920" cy="6104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1" name="Rectangle 8"/>
          <p:cNvSpPr/>
          <p:nvPr/>
        </p:nvSpPr>
        <p:spPr>
          <a:xfrm>
            <a:off x="762120" y="5859360"/>
            <a:ext cx="71229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Copyright 2013 Carnegie Mellon University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September 2013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b7b7b7"/>
                </a:solidFill>
                <a:latin typeface="Arial"/>
              </a:rPr>
              <a:t> Launch Workshop Meeting 9 Presentation - </a:t>
            </a:r>
            <a:fld id="{47860D13-1047-4F95-9EE0-B5234C3F4C96}" type="slidenum">
              <a:rPr b="1" lang="en-US" sz="900" spc="-1" strike="noStrike">
                <a:solidFill>
                  <a:srgbClr val="b7b7b7"/>
                </a:solidFill>
                <a:latin typeface="Arial"/>
              </a:rPr>
              <a:t>&lt;number&gt;</a:t>
            </a:fld>
            <a:endParaRPr b="1" lang="en-US" sz="9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42" name="Line 10"/>
          <p:cNvSpPr/>
          <p:nvPr/>
        </p:nvSpPr>
        <p:spPr>
          <a:xfrm>
            <a:off x="912960" y="609480"/>
            <a:ext cx="721512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43" name="Picture 18" descr="logoblackbkgrdphotoshop"/>
          <p:cNvPicPr/>
          <p:nvPr/>
        </p:nvPicPr>
        <p:blipFill>
          <a:blip r:embed="rId2"/>
          <a:srcRect l="781" t="7423" r="1039" b="5419"/>
          <a:stretch/>
        </p:blipFill>
        <p:spPr>
          <a:xfrm>
            <a:off x="182520" y="155520"/>
            <a:ext cx="2921040" cy="420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buClr>
                <a:srgbClr val="ffffff"/>
              </a:buClr>
              <a:buFont typeface="Arial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buClr>
                <a:srgbClr val="ffffff"/>
              </a:buClr>
              <a:buFont typeface="Arial"/>
              <a:buChar char="-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creativecommons.org/licenses/by/4.0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hyperlink" Target="https://creativecommons.org/licenses/by/4.0/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051"/>
          <p:cNvSpPr/>
          <p:nvPr/>
        </p:nvSpPr>
        <p:spPr>
          <a:xfrm>
            <a:off x="922320" y="2876400"/>
            <a:ext cx="650232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91" name="Rectangle 2052"/>
          <p:cNvSpPr/>
          <p:nvPr/>
        </p:nvSpPr>
        <p:spPr>
          <a:xfrm>
            <a:off x="923760" y="914400"/>
            <a:ext cx="71676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Schoolbook"/>
              </a:rPr>
              <a:t>PROJECT NAME</a:t>
            </a:r>
            <a:endParaRPr b="1" lang="en-US" sz="48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Date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eam Leader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eam Members</a:t>
            </a:r>
            <a:endParaRPr b="1" lang="en-US" sz="24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eam Goal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Key Project Mileston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512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am Planned Schedu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141440" y="1294920"/>
            <a:ext cx="33512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agement Schedule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419040"/>
            <a:ext cx="732312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entury Schoolbook"/>
              </a:rPr>
              <a:t>Alternate Plan and Key Milestones</a:t>
            </a:r>
            <a:endParaRPr b="0" lang="en-US" sz="35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Key Project Risk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09480" y="1251000"/>
          <a:ext cx="6858000" cy="698400"/>
        </p:xfrm>
        <a:graphic>
          <a:graphicData uri="http://schemas.openxmlformats.org/drawingml/2006/table">
            <a:tbl>
              <a:tblPr/>
              <a:tblGrid>
                <a:gridCol w="3962520"/>
                <a:gridCol w="762120"/>
                <a:gridCol w="1143000"/>
                <a:gridCol w="990360"/>
              </a:tblGrid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isk and mitigation actio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ac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kelihood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igned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Conclusio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riefing objective: to secure management commitment to the plan developed by the tea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ourc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dat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siz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 mileston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Detailed Plan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tailed plan el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ze estimate (form SUM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sk and schedule plan (forms TASK and SCH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ality plan (form SUMQ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sk assessment (form ITL or IRT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7120" y="36360"/>
            <a:ext cx="3640320" cy="1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800" spc="-1" strike="noStrike"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61440" y="0"/>
            <a:ext cx="568080" cy="57168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-515520"/>
            <a:ext cx="812952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478440" tIns="0" bIns="5644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            </a:t>
            </a: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Bodoni Bd BT"/>
            </a:endParaRPr>
          </a:p>
        </p:txBody>
      </p:sp>
      <p:pic>
        <p:nvPicPr>
          <p:cNvPr id="96" name="Picture 4" descr="Creative Commons Licen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573960" y="5167440"/>
            <a:ext cx="744480" cy="261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56760" y="965160"/>
            <a:ext cx="7397640" cy="4471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95200" y="855720"/>
            <a:ext cx="767232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Agenda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SP launch workshop overvie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am goals and p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ternate team goals and p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ject ris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2"/>
          <p:cNvSpPr/>
          <p:nvPr/>
        </p:nvSpPr>
        <p:spPr>
          <a:xfrm flipH="1">
            <a:off x="5181120" y="3135240"/>
            <a:ext cx="3049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Launch Process Meeting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44480" y="16113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1.  Establish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roduct and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Business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Goal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744480" y="27669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2.  Assign Role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nd Define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eam Goal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303640" y="16113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4.  Build Top-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own and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ext-Phase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lan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2303640" y="27669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5.  Develop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he Quality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lan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2303640" y="3919680"/>
            <a:ext cx="1287360" cy="88560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6.  Build Bottom-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up and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Consolidated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lan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8" name="Line 11"/>
          <p:cNvSpPr/>
          <p:nvPr/>
        </p:nvSpPr>
        <p:spPr>
          <a:xfrm>
            <a:off x="1355760" y="2494080"/>
            <a:ext cx="0" cy="272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09" name="Line 12"/>
          <p:cNvSpPr/>
          <p:nvPr/>
        </p:nvSpPr>
        <p:spPr>
          <a:xfrm>
            <a:off x="2981160" y="2494080"/>
            <a:ext cx="0" cy="272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0" name="Line 13"/>
          <p:cNvSpPr/>
          <p:nvPr/>
        </p:nvSpPr>
        <p:spPr>
          <a:xfrm>
            <a:off x="2981160" y="3649680"/>
            <a:ext cx="0" cy="270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1" name="Line 14"/>
          <p:cNvSpPr/>
          <p:nvPr/>
        </p:nvSpPr>
        <p:spPr>
          <a:xfrm flipV="1">
            <a:off x="2168640" y="2084040"/>
            <a:ext cx="0" cy="2924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2" name="Line 15"/>
          <p:cNvSpPr/>
          <p:nvPr/>
        </p:nvSpPr>
        <p:spPr>
          <a:xfrm>
            <a:off x="2168640" y="2084400"/>
            <a:ext cx="13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3" name="Rectangle 17"/>
          <p:cNvSpPr/>
          <p:nvPr/>
        </p:nvSpPr>
        <p:spPr>
          <a:xfrm>
            <a:off x="3929040" y="16113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7.  Conduc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isk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Assessmen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4" name="Rectangle 18"/>
          <p:cNvSpPr/>
          <p:nvPr/>
        </p:nvSpPr>
        <p:spPr>
          <a:xfrm>
            <a:off x="3929040" y="2766960"/>
            <a:ext cx="128736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8.  Prepare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Briefing and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Launch Repor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5" name="Rectangle 19"/>
          <p:cNvSpPr/>
          <p:nvPr/>
        </p:nvSpPr>
        <p:spPr>
          <a:xfrm>
            <a:off x="5638680" y="2754360"/>
            <a:ext cx="1287720" cy="88560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M.  Launch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ostmortem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6" name="Line 20"/>
          <p:cNvSpPr/>
          <p:nvPr/>
        </p:nvSpPr>
        <p:spPr>
          <a:xfrm>
            <a:off x="4606920" y="2494080"/>
            <a:ext cx="0" cy="272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7" name="Line 21"/>
          <p:cNvSpPr/>
          <p:nvPr/>
        </p:nvSpPr>
        <p:spPr>
          <a:xfrm>
            <a:off x="6248520" y="2449440"/>
            <a:ext cx="0" cy="27324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8" name="Line 22"/>
          <p:cNvSpPr/>
          <p:nvPr/>
        </p:nvSpPr>
        <p:spPr>
          <a:xfrm flipV="1">
            <a:off x="3794040" y="2084040"/>
            <a:ext cx="0" cy="2924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19" name="Line 23"/>
          <p:cNvSpPr/>
          <p:nvPr/>
        </p:nvSpPr>
        <p:spPr>
          <a:xfrm>
            <a:off x="3794040" y="2084400"/>
            <a:ext cx="13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0" name="Line 24"/>
          <p:cNvSpPr/>
          <p:nvPr/>
        </p:nvSpPr>
        <p:spPr>
          <a:xfrm flipH="1">
            <a:off x="2981160" y="5008680"/>
            <a:ext cx="81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1" name="Line 25"/>
          <p:cNvSpPr/>
          <p:nvPr/>
        </p:nvSpPr>
        <p:spPr>
          <a:xfrm flipV="1">
            <a:off x="2981160" y="4804920"/>
            <a:ext cx="0" cy="203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2" name="Rectangle 27"/>
          <p:cNvSpPr/>
          <p:nvPr/>
        </p:nvSpPr>
        <p:spPr>
          <a:xfrm>
            <a:off x="5622840" y="1611360"/>
            <a:ext cx="128772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9.  Hold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3" name="Rectangle 28"/>
          <p:cNvSpPr/>
          <p:nvPr/>
        </p:nvSpPr>
        <p:spPr>
          <a:xfrm>
            <a:off x="5622840" y="3897360"/>
            <a:ext cx="1287720" cy="88272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New Teams: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TSP Process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Review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4" name="Line 29"/>
          <p:cNvSpPr/>
          <p:nvPr/>
        </p:nvSpPr>
        <p:spPr>
          <a:xfrm flipV="1">
            <a:off x="5487840" y="2084040"/>
            <a:ext cx="0" cy="1050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5" name="Line 30"/>
          <p:cNvSpPr/>
          <p:nvPr/>
        </p:nvSpPr>
        <p:spPr>
          <a:xfrm>
            <a:off x="5487840" y="2084400"/>
            <a:ext cx="135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744480" y="3919680"/>
            <a:ext cx="1287360" cy="885600"/>
          </a:xfrm>
          <a:prstGeom prst="rect">
            <a:avLst/>
          </a:prstGeom>
          <a:solidFill>
            <a:srgbClr val="00008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0680" bIns="40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3.  Produce 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velopment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Strategy</a:t>
            </a: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11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7" name="Line 32"/>
          <p:cNvSpPr/>
          <p:nvPr/>
        </p:nvSpPr>
        <p:spPr>
          <a:xfrm>
            <a:off x="1355760" y="3649680"/>
            <a:ext cx="0" cy="270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8" name="Line 33"/>
          <p:cNvSpPr/>
          <p:nvPr/>
        </p:nvSpPr>
        <p:spPr>
          <a:xfrm flipV="1">
            <a:off x="1355760" y="4804920"/>
            <a:ext cx="0" cy="203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  <p:sp>
        <p:nvSpPr>
          <p:cNvPr id="129" name="Line 34"/>
          <p:cNvSpPr/>
          <p:nvPr/>
        </p:nvSpPr>
        <p:spPr>
          <a:xfrm flipH="1">
            <a:off x="1355760" y="5008680"/>
            <a:ext cx="8128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Bodoni B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419040"/>
            <a:ext cx="732312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Key Planning Work Accomplished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609480" y="1219320"/>
          <a:ext cx="7086600" cy="4467240"/>
        </p:xfrm>
        <a:graphic>
          <a:graphicData uri="http://schemas.openxmlformats.org/drawingml/2006/table">
            <a:tbl>
              <a:tblPr/>
              <a:tblGrid>
                <a:gridCol w="609840"/>
                <a:gridCol w="1295280"/>
                <a:gridCol w="5181480"/>
              </a:tblGrid>
              <a:tr h="37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tg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agement Objectiv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iscuss the project goals with management and marketing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oals and Role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e and document the team's goal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locate team roles among team member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ment Strategy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e a system conceptual design, and, if needed, a fix list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termine the development strategy and products to be produced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e the development process to be used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verall Pla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velop size estimates and the overall team plan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 Pla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velop the quality plan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60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lanced Pla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locate work to team member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e bottom-up next-phase plans for each team member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e a balanced next-phase plan for the team and each team member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ject Risk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dentify and evaluate project risk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fine risk assessment checkpoints and responsibilitie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pose mitigation actions for near-term, high-impact risks.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The TSP Launch Produc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unch produc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ed team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am-member role assign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erall development strate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ilored pro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of needed process el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ilities support pl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p down overall plan with key milestones and a detailed next-phase team pl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asurable quality plan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ttom-up balanced individual and team plans for the next ph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299880" indent="-185400">
              <a:buClr>
                <a:srgbClr val="ffffff"/>
              </a:buClr>
              <a:buFont typeface="Arial"/>
              <a:buChar char="•"/>
              <a:tabLst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ject risk assessment and mitigation pla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ole Assignment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1066680"/>
          <a:ext cx="6858000" cy="46767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ole Manager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mary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ternat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stomer Interface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ig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lementation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nning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cess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ality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ppor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st</a:t>
                      </a:r>
                      <a:endParaRPr b="1" lang="en-US" sz="14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722160"/>
                          <a:tab algn="l" pos="1444680"/>
                          <a:tab algn="l" pos="2166840"/>
                          <a:tab algn="l" pos="2889360"/>
                          <a:tab algn="l" pos="3611520"/>
                          <a:tab algn="l" pos="4334040"/>
                          <a:tab algn="l" pos="5056200"/>
                          <a:tab algn="l" pos="5778360"/>
                          <a:tab algn="l" pos="6500880"/>
                          <a:tab algn="l" pos="7223040"/>
                          <a:tab algn="l" pos="7945560"/>
                          <a:tab algn="l" pos="8667720"/>
                          <a:tab algn="l" pos="9390240"/>
                          <a:tab algn="l" pos="10112400"/>
                          <a:tab algn="l" pos="1083456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Bodoni Bd B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Management Goal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33512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ted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141440" y="1294920"/>
            <a:ext cx="335124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ied Goa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8200" y="419040"/>
            <a:ext cx="6851880" cy="56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Schoolbook"/>
              </a:rPr>
              <a:t>Requested Product Features</a:t>
            </a:r>
            <a:endParaRPr b="0" lang="en-US" sz="36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37920" y="1294920"/>
            <a:ext cx="685476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722160"/>
                <a:tab algn="l" pos="1444680"/>
                <a:tab algn="l" pos="2166840"/>
                <a:tab algn="l" pos="2889360"/>
                <a:tab algn="l" pos="3611520"/>
                <a:tab algn="l" pos="4334040"/>
                <a:tab algn="l" pos="5056200"/>
                <a:tab algn="l" pos="5778360"/>
                <a:tab algn="l" pos="6500880"/>
                <a:tab algn="l" pos="7223040"/>
                <a:tab algn="l" pos="7945560"/>
                <a:tab algn="l" pos="8667720"/>
                <a:tab algn="l" pos="9390240"/>
                <a:tab algn="l" pos="10112400"/>
                <a:tab algn="l" pos="1083456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7T00:58:46Z</dcterms:created>
  <dc:creator>Jim Over</dc:creator>
  <dc:description/>
  <cp:keywords/>
  <dc:language>en-US</dc:language>
  <cp:lastModifiedBy>wrn_loc_adm</cp:lastModifiedBy>
  <cp:lastPrinted>1999-10-08T01:22:02Z</cp:lastPrinted>
  <dcterms:modified xsi:type="dcterms:W3CDTF">2018-09-05T13:59:14Z</dcterms:modified>
  <cp:revision>53</cp:revision>
  <dc:subject/>
  <dc:title>No Slide Title</dc:title>
</cp:coreProperties>
</file>